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FC0E-AF97-42DE-B929-8F9AE76E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3180-9C05-4FF5-B169-2D8E713C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A059-B879-48EB-8DD9-6CDBF6DA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41CA-6D6C-46EC-A6BF-C6108F80C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BA3B-6520-4B2A-B009-FC2FFB2E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4B7A-D6D9-44E4-9934-BB172DD6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B907-D7C4-4310-8619-C15533F6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7B29-C4C7-4B3E-9180-E73632D6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6C4C-CD9A-4B6B-B7CC-D2B34283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3CDC-84E6-407E-9C16-748C32D1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7C65-F277-430D-AAE4-D953BCC3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5A0F-56EF-4E0C-A816-71519887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4528-9335-4B95-A70F-8B3BE2F9CE7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20760" y="239760"/>
            <a:ext cx="6683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T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:Vocabulary 1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57120" y="112248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host of important wo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428840" y="1571760"/>
            <a:ext cx="464328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ληθεια (10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ληθινος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γγυς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κει (10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κειθεν (3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ὐθυς (5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λως (37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θως (18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929120" y="17128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929120" y="233676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e, genuine,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929120" y="295596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929120" y="357012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(in that pla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929120" y="419400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4929120" y="482760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med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4929120" y="605808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st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4929120" y="54291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ropriately,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:Vocabulary 2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1214280" y="1428840"/>
            <a:ext cx="4643640" cy="56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αι (3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μοιος (4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μοιως (3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που (8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ς ἥ ὅ (139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τι (129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ὑ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714920" y="156528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es, of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714920" y="218448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ilar, 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4714920" y="279864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4714920" y="34225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4714920" y="40561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, which, 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4714920" y="467028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, because or “ (marking beginning of spee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4714920" y="591012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:Vocabulary 3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1214280" y="1285920"/>
            <a:ext cx="4643640" cy="56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δε (1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τε (8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ὐτε ... οὐτε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ὑτως (20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χι (5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λην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θε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ὡδε (6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4714920" y="14335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4714920" y="20527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4714920" y="266688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... 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4714920" y="329076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is manner, th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4714920" y="392436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,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4714920" y="453852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4714920" y="515772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where? or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4714920" y="577224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:Vocabulary 4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357120" y="150480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 more prepos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1214280" y="2097000"/>
            <a:ext cx="464364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μπροσθεν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.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(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48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ἑνεκα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.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(26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εραν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.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(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23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χωρις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.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(41)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5072040" y="22240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fron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5072040" y="286236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the sak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5072040" y="34815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the other sid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5072040" y="409572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parate, apart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1228680" y="508176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ιλατος (5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5072040" y="50958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:Vocabulary 5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357120" y="150480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five more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1214280" y="2097000"/>
            <a:ext cx="46436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γγιζω +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dat.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(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42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γεομα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(2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αυμαζω (4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3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εραπευω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(4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3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θευδω (22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5072040" y="22240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pproach, come 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5072040" y="286236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5072040" y="34815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ama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5072040" y="409572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5072040" y="471492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l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19:12:00Z</dcterms:created>
  <dc:creator>Sarah</dc:creator>
  <dc:description/>
  <dc:language>en-US</dc:language>
  <cp:lastModifiedBy>Sarah</cp:lastModifiedBy>
  <dcterms:modified xsi:type="dcterms:W3CDTF">2009-06-29T10:19:02Z</dcterms:modified>
  <cp:revision>20</cp:revision>
  <dc:subject/>
  <dc:title>Slide 1</dc:title>
</cp:coreProperties>
</file>